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080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11360" y="635040"/>
            <a:ext cx="77212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999120" y="160200"/>
            <a:ext cx="201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- </a:t>
            </a:r>
            <a:fld id="{C3DB0FEC-A23C-4524-977E-8240CED6C9D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400800"/>
            <a:ext cx="792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right © 2002 by Harcourt, Inc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5040" y="711360"/>
            <a:ext cx="7873920" cy="1877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3808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lance she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ome stat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ment of cash flo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ounting income versus cash flo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VA and EV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al tax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porate tax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1120" y="809640"/>
            <a:ext cx="77058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CHAPTER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Financial Statements,</a:t>
            </a:r>
            <a:br>
              <a:rPr sz="3200"/>
            </a:b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ash Flow, and Ta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effect did the expansion have on net operating working capital (NOWC)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1760" y="3657600"/>
            <a:ext cx="853452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1706400"/>
                <a:tab algn="r" pos="748188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($7,282 + $632,160 + $1,287,36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1706400"/>
                <a:tab algn="r" pos="748188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($524,160 + $489,60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1706400"/>
                <a:tab algn="r" pos="748188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913,042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1706400"/>
                <a:tab algn="r" pos="748188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1706400"/>
                <a:tab algn="r" pos="748188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793,80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94560" y="2577960"/>
            <a:ext cx="32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               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90920" y="2384280"/>
            <a:ext cx="2590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4120" y="2384280"/>
            <a:ext cx="2590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25369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effect did the expansion have on capital used in operations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2263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NOWC + Net fixed asse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$913,042 + $939,79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,852,832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,138,60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9920" y="3406680"/>
            <a:ext cx="21009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a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99920" y="5159520"/>
            <a:ext cx="21009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a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9920" y="2057400"/>
            <a:ext cx="21009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89948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id the expansion create additional net operating profit after taxes (NOPAT)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PAT = EBIT(1 - Tax rat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PA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-$690,560(1 - 0.4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-$690,560(0.6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-$414,336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PA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25,46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is your initial assessment of the expansion’s effect on operations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r" pos="52578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1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0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r" pos="52578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834,40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3,432,000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r" pos="52578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PA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$414,336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460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r" pos="52578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W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913,04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793,800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52578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ng capit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852,83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138,6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52578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038480" y="2743200"/>
            <a:ext cx="1981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00800" y="2743200"/>
            <a:ext cx="1828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5040" y="711360"/>
            <a:ext cx="7873920" cy="169380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2560" y="804960"/>
            <a:ext cx="770580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effect did the company’s expansion have on its net cash flow and operating cash fl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9360" y="2625840"/>
            <a:ext cx="82105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C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NI + DE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-$519,936 + $116,9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-$402,97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2600" y="3500280"/>
            <a:ext cx="8210520" cy="5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254240"/>
                <a:tab algn="r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C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$87,960 + $18,900 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06,86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9360" y="4103640"/>
            <a:ext cx="82105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NOPAT + D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-$414,336 + $116,9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-$297,37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8560" y="5419800"/>
            <a:ext cx="82105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20816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$125,460 + $18,9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20816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44,36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was the free cash flow (FCF)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or 2001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25146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CF = NOPAT - Net capital investmen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-$414,336 - ($1,852,832 - $1,138,60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-$414,336 - $714,23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-$1,128,568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you suppose investors reacted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5040" y="711360"/>
            <a:ext cx="7873920" cy="21081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2560" y="804960"/>
            <a:ext cx="770580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is the company’s EV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ssume the firm’s after-tax cost of capital (COC) was 11% in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nd 13% in 200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46000" y="3124080"/>
            <a:ext cx="692640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NOPAT- (COC)(Capi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-$414,336 - (0.13)($1,852,83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-$414,336 - $240,8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-$655,2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51040" y="5024520"/>
            <a:ext cx="7391160" cy="12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$125,460 - (0.11)($1,138,6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$125,460 - $125,2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$21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35040" y="711360"/>
            <a:ext cx="7873920" cy="17269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2560" y="804960"/>
            <a:ext cx="770580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ould you co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hat the expansion increased or decreased MV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72640" y="3014640"/>
            <a:ext cx="743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VA =                         -                     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82720" y="4267080"/>
            <a:ext cx="741996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ring the last year stock price has decreased 73%, so market value of equity has declined.  Consequently, MVA has decl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63560" y="2820960"/>
            <a:ext cx="282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ity ca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06880" y="2820960"/>
            <a:ext cx="264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et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equ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838080" y="2437920"/>
            <a:ext cx="746784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ably no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/P increased 260% over the past year, while sales increased by only 70%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his continues, suppliers may cut off trade credi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35040" y="711360"/>
            <a:ext cx="787392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2560" y="762120"/>
            <a:ext cx="77058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oes the company pay its suppliers on ti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947880" y="3074760"/>
            <a:ext cx="7248240" cy="220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N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negative NOPAT shows that the company is spending more on it’s operations than it is taking i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5040" y="711360"/>
            <a:ext cx="787392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2560" y="762120"/>
            <a:ext cx="77058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oes it appear that the sales price exceeds the cost per unit so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7621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Balance Sheets:  Assets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62120" y="1676520"/>
          <a:ext cx="7619760" cy="4635360"/>
        </p:xfrm>
        <a:graphic>
          <a:graphicData uri="http://schemas.openxmlformats.org/drawingml/2006/table">
            <a:tbl>
              <a:tblPr/>
              <a:tblGrid>
                <a:gridCol w="3124080"/>
                <a:gridCol w="2133720"/>
                <a:gridCol w="304560"/>
                <a:gridCol w="2057400"/>
              </a:tblGrid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28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-term inv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6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2,1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1,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ntor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87,3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5,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C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26,80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4,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 F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02,9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1,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: Depr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3,1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,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F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9,79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4,8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asse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66,59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68,8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2895480"/>
            <a:ext cx="797544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1680" indent="-5716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ompany offers 60-day credit terms.  The improved terms are matched by its competitors, so sales remain con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5040" y="711360"/>
            <a:ext cx="787392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2560" y="762120"/>
            <a:ext cx="77058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effect would each of these actions have on the cash accou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90600" y="5102280"/>
            <a:ext cx="685332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/R would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h would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7600" y="1190520"/>
            <a:ext cx="77425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es double as a result of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credit te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293480" y="2403000"/>
            <a:ext cx="6853320" cy="376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rt-run:  Inventory and fixed assets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meet increased sales.  A/R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, Cash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Company may have to seek additional financ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ng-run:  Collections increase and the company’s cash position would improv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837720" y="2666520"/>
            <a:ext cx="750420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expansion was financed primarily with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external capit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ompany issued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long-term deb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hich reduced its financial strength and flexibilit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2560" y="80496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How was the expansion financ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175248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ould external capital have been required if they had broken even in 2001 (Net income = 0)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1960" y="3471480"/>
            <a:ext cx="7480080" cy="129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Y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company would still have to finance its increase in asse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175248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happens if fixed assets are depreciated over 7 years (as opposed to the current 10 years)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23400" y="2952360"/>
            <a:ext cx="7504200" cy="3506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effect on physical asse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xed assets on balance sheet would declin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income would declin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 payments would declin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h position would improv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Other policies that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an affect financial statements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20440" y="3016080"/>
            <a:ext cx="7504200" cy="23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valuation method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alization of R&amp;D expens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icies for funding the company’s retirement pla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175248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oes the company’s positive stock price ($2.25), in the face of large losses, suggest that investors are irrational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96720" y="3457080"/>
            <a:ext cx="6551640" cy="224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N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it means that investors expect things to get better in the futur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y did the stock price fall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fter the dividend was cut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7713720" cy="302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 was “signaling” that the firm’s operations were in troubl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ividend cut lowered investors’ expectations for future cash flows, which caused the stock price to declin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were some other sources of financing used in 2001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2440" y="2322000"/>
            <a:ext cx="7899120" cy="415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elling financial asset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Short term investments decreased by $48,60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Bank loan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Notes payable increased by $520,00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redit from supplier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A/P increased by $378,56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Employee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Accruals increased by $353,60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35040" y="711360"/>
            <a:ext cx="787392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09200" y="774720"/>
            <a:ext cx="7721640" cy="109224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is the effect of the $346,624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ax credit received in 2001.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34520" y="2425680"/>
            <a:ext cx="8293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s suggests the company paid at least $346,624 in taxes during the past 2 years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f the payments over the past 2 years were less than $346,624 the firm would have had to carry forward the amount of its loss that was not carried back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f the firm did not receive a full refund its cash position would be even worse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418640" y="372420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,733,7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35040" y="685800"/>
            <a:ext cx="7873920" cy="7621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762120"/>
            <a:ext cx="770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Liabilities and Equ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9440" y="216072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195680" y="216072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2760" y="2550960"/>
            <a:ext cx="2912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ts p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64960" y="255096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24,1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14520" y="255096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5,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8520" y="2941560"/>
            <a:ext cx="293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es p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64960" y="294156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2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14520" y="294156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9960" y="3333600"/>
            <a:ext cx="1897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u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8640" y="333360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89,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84120" y="333360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6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8520" y="3724200"/>
            <a:ext cx="2371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14520" y="372420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81,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7800" y="4114800"/>
            <a:ext cx="3162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ng-term de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18640" y="411480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,0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14520" y="411480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3,4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9240" y="4505400"/>
            <a:ext cx="3116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on st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64960" y="450540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6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914520" y="450540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6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7800" y="4897440"/>
            <a:ext cx="3703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tained earn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00720" y="4897440"/>
            <a:ext cx="2031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327,16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60360" y="489744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3,76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8160" y="5288040"/>
            <a:ext cx="302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equ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42760" y="528804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2,8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60360" y="528804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63,76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8880" y="5678640"/>
            <a:ext cx="2079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L&amp;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8640" y="567864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,866,59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44440" y="567864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,468,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419360" y="26290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419360" y="38098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400280" y="53532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419360" y="575316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419360" y="61340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19360" y="621036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553080" y="262908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553080" y="380988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6534000" y="53532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553080" y="575316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553080" y="613404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553080" y="621036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711360"/>
            <a:ext cx="792504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762120"/>
            <a:ext cx="79250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2000 Tax Year Single Individual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ax R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7240" y="1886040"/>
            <a:ext cx="3227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axable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68520" y="1886040"/>
            <a:ext cx="257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ax on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146000" y="1886040"/>
            <a:ext cx="1220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te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1480" y="2597040"/>
            <a:ext cx="2008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 - 26,2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604840" y="259704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167600" y="259704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1480" y="3070080"/>
            <a:ext cx="302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,620 - 63,5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780800" y="3068640"/>
            <a:ext cx="1760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,937.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67600" y="307008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1120" y="3541680"/>
            <a:ext cx="3249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3,550 - 132,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63360" y="354168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,381.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167600" y="354168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1120" y="4016520"/>
            <a:ext cx="347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2,600 - 288,3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63360" y="40165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5,787.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67600" y="401652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1480" y="4489560"/>
            <a:ext cx="2687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 288,3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1280" y="449568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1,857.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167240" y="4489560"/>
            <a:ext cx="13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9.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42840" y="5402160"/>
            <a:ext cx="76996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Plus this percentage on the amount over the                bracket ba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5800" y="5187960"/>
            <a:ext cx="2295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274320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ssume your salary is $45,000, and you received $3,000 in dividends.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You are single, so your personal exemption is $2,800 and your itemized deductions are $4,550.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68996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 the basis of the information above and the 2000 tax year tax rate schedule, what is your tax liabilit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12800" y="804960"/>
            <a:ext cx="7699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alculation of Taxable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8680" y="2386080"/>
            <a:ext cx="1400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6000" y="238608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4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6880" y="3014640"/>
            <a:ext cx="212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id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30600" y="301464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6520" y="3641760"/>
            <a:ext cx="426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al exem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055280" y="3641760"/>
            <a:ext cx="146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,8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6160" y="4272120"/>
            <a:ext cx="239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061400" y="4272120"/>
            <a:ext cx="146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4,55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7240" y="4900680"/>
            <a:ext cx="3227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able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779880" y="490068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40,6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781680" y="48006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781680" y="541008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81680" y="54864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923400" y="1905120"/>
            <a:ext cx="7534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 Liability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$3,937.50 + 0.28($14,40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7,969.5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ginal Tax Rate = 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28%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verage Tax Rat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 rate =                  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19.6%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659480" y="880920"/>
            <a:ext cx="3587400" cy="57636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40,650 - $26,2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5759280" y="1712520"/>
            <a:ext cx="838440" cy="460440"/>
          </a:xfrm>
          <a:prstGeom prst="rightArrow">
            <a:avLst>
              <a:gd name="adj1" fmla="val 50000"/>
              <a:gd name="adj2" fmla="val 91056"/>
            </a:avLst>
          </a:prstGeom>
          <a:solidFill>
            <a:srgbClr val="fafd00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72760" y="4873680"/>
            <a:ext cx="19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$9,969.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40,6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9040" y="795240"/>
            <a:ext cx="772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2000 Corporate Tax R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7240" y="1766880"/>
            <a:ext cx="3227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axable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268520" y="1766880"/>
            <a:ext cx="257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ax on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146000" y="1766880"/>
            <a:ext cx="1220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te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7600" y="2478240"/>
            <a:ext cx="2008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 - 5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701680" y="247824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167600" y="247824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7600" y="2951280"/>
            <a:ext cx="302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,000 - 7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909680" y="295128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,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167600" y="295128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7240" y="3422520"/>
            <a:ext cx="3249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5,000 - 1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83960" y="3422520"/>
            <a:ext cx="142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,7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67600" y="342252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4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87600" y="3897360"/>
            <a:ext cx="347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,000 - 33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683960" y="3897360"/>
            <a:ext cx="142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,2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167600" y="389736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87600" y="4680000"/>
            <a:ext cx="2348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 18.3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23800" y="468000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4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7600" y="468000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42840" y="5402160"/>
            <a:ext cx="76996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Plus this percentage on the amount over the                bracket ba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5800" y="5187960"/>
            <a:ext cx="2295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56000" y="4243320"/>
            <a:ext cx="696636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..                               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...          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21337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ssume a corporation has $100,000 of taxable income from operations, $5,000 of interest income, and $10,000 of dividend income.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its tax liabilit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895320"/>
            <a:ext cx="363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369840" y="89532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6880" y="1401840"/>
            <a:ext cx="3183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est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048080" y="140184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1908000"/>
            <a:ext cx="347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able divid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7960" y="2298600"/>
            <a:ext cx="160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57440" y="2298600"/>
            <a:ext cx="1355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,000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7240" y="2689200"/>
            <a:ext cx="3227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able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69840" y="268920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08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7240" y="3701880"/>
            <a:ext cx="57898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$22,250 + 0.39 ($8,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25,37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4720" y="5221440"/>
            <a:ext cx="665532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Dividends - Ex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$10,000 - 0.7($10,000) 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3,0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43640" y="3193920"/>
            <a:ext cx="166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443640" y="3276720"/>
            <a:ext cx="166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443640" y="2801880"/>
            <a:ext cx="166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971640" y="2577600"/>
            <a:ext cx="74340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 and local government bonds (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municipal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or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“munis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are generally exempt from federal tax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9040" y="762120"/>
            <a:ext cx="772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axable versus Tax Exempt B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82760" y="1523880"/>
            <a:ext cx="833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31560" indent="-33156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164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xon bonds at 10% versus California muni bonds at 7%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560" indent="-33156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164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 = Tax rate = 28%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560" indent="-33156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164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ter-tax interest incom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560" indent="0">
              <a:spcBef>
                <a:spcPts val="799"/>
              </a:spcBef>
              <a:buNone/>
              <a:tabLst>
                <a:tab algn="l" pos="0"/>
                <a:tab algn="l" pos="164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x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0.10($5,000) - 0.10($5,000)(0.28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5280" indent="0">
              <a:spcBef>
                <a:spcPts val="799"/>
              </a:spcBef>
              <a:buNone/>
              <a:tabLst>
                <a:tab algn="l" pos="0"/>
                <a:tab algn="l" pos="164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0.10($5,000)(0.72) 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36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560" indent="0">
              <a:spcBef>
                <a:spcPts val="799"/>
              </a:spcBef>
              <a:buNone/>
              <a:tabLst>
                <a:tab algn="l" pos="0"/>
                <a:tab algn="l" pos="164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 = 0.07($5,000) - 0 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35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152360" y="2558520"/>
            <a:ext cx="6824880" cy="336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216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ve for T in this equation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tabLst>
                <a:tab algn="l" pos="0"/>
                <a:tab algn="l" pos="216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ni yiel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Corp Yield(1-T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216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00%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10.0%(1-T)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216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30.0%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35040" y="711360"/>
            <a:ext cx="7873920" cy="17269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9040" y="762120"/>
            <a:ext cx="77230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t what tax rate would you be indifferent between the muni and the corporate bond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453200" y="5654520"/>
            <a:ext cx="2031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519,93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5040" y="685800"/>
            <a:ext cx="7873920" cy="7621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2560" y="76212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ncome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2600" y="2104920"/>
            <a:ext cx="124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66440" y="21049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,834,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55680" y="21049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,432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1160" y="2495520"/>
            <a:ext cx="1380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66440" y="24955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,728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55680" y="24955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,864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0080" y="2886120"/>
            <a:ext cx="3229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expe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06280" y="288612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8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95520" y="288612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4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5760" y="3276720"/>
            <a:ext cx="1671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pre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66440" y="32767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6,9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55680" y="32767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,9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720" y="3666960"/>
            <a:ext cx="338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. op.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66440" y="366696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,524,9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55680" y="366696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,222,9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1880" y="4091040"/>
            <a:ext cx="1671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67320" y="4091040"/>
            <a:ext cx="1918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690,5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95520" y="409104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9,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4680" y="4483080"/>
            <a:ext cx="257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est ex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79120" y="448308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6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68360" y="448308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2,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1880" y="4873680"/>
            <a:ext cx="1559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53200" y="4873680"/>
            <a:ext cx="2031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866,5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55680" y="487368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6,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1520" y="5264280"/>
            <a:ext cx="252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es (40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53200" y="5264280"/>
            <a:ext cx="2031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346,62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55680" y="526428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8,6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1520" y="5654520"/>
            <a:ext cx="2371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55680" y="56545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7,9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90600" y="162396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59320" y="162396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419360" y="21337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419360" y="37339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419360" y="41148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419360" y="49528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419360" y="57150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419360" y="60958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419360" y="61722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629400" y="21337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629400" y="37339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629400" y="41148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629400" y="495288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6629400" y="57150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629400" y="609588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629400" y="61722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969480" y="2593800"/>
            <a:ext cx="75582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 &gt; 30%, buy tax exempt muni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 &lt; 30%, buy corporate bond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ly high income, and hence high tax bracket, individuals should buy muni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9040" y="762120"/>
            <a:ext cx="772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m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2560" y="76212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Other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7680" y="3070080"/>
            <a:ext cx="275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. of sh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50880" y="307008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95360" y="307008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9840" y="3699000"/>
            <a:ext cx="995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32600" y="3699000"/>
            <a:ext cx="169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$5.19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09720" y="369900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0.8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9840" y="4329000"/>
            <a:ext cx="1018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80920" y="4329000"/>
            <a:ext cx="142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0.1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09720" y="432900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0.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8760" y="4957920"/>
            <a:ext cx="2371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ck 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89000" y="495792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2.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09720" y="495792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8.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8760" y="5587920"/>
            <a:ext cx="2415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se pm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50880" y="558792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4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95360" y="558792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4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17720" y="232236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29000" y="232236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23080" y="2770200"/>
            <a:ext cx="1484280" cy="12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08560" y="2770200"/>
            <a:ext cx="1484280" cy="12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5040" y="685800"/>
            <a:ext cx="7873920" cy="7621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2560" y="76212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tatement of Retained Earnings (20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1480" y="2471760"/>
            <a:ext cx="807120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r" pos="7713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lance of reta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r" pos="7713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rnings, 12/31/00                   $203,768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r" pos="7713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:  Net income, 200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519,93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r" pos="7713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:  Dividends pai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1,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r" pos="7713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lance of reta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r" pos="7713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rnings, 12/31/0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$327,16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18160" y="5827680"/>
            <a:ext cx="1702080" cy="237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27880" y="5925960"/>
            <a:ext cx="1701720" cy="241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27880" y="4678200"/>
            <a:ext cx="1701720" cy="241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711360"/>
            <a:ext cx="792504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tatement of Cash Flows:  2001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ACTIVITI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Inco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519,936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justment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preciation                          116,96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80,96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inventori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572,16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AP378,56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accruals               353,600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cash provided by ops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5562720"/>
            <a:ext cx="1968480" cy="5968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523,93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400800" y="4191120"/>
            <a:ext cx="1968480" cy="4572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00800" y="1143000"/>
            <a:ext cx="196848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10280" y="55627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0280" y="6095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10280" y="6172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-T INVESTING ACTIV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stments in fixed assets      (711,95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NCING ACTIVITI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s-t investmen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8,60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notes payab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20,00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long-term deb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76,568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yment of cash dividends     (11,00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cash from financ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,234,168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:  net change in cash            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(1,718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us:  cash at beginning of ye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,000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h at end of ye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,28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60520" y="2590920"/>
            <a:ext cx="835488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cash from operations 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-$523,93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mainly because of negative net incom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firm borrowed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,185,56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sold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48,6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short-term investments to meet its cash requiremen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n after borrowing, the cash account fell by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,71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35040" y="711360"/>
            <a:ext cx="7873920" cy="17269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762120"/>
            <a:ext cx="770580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can you conclude about the company’s financial condition from its statement of cash flow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12T07:26:23Z</dcterms:created>
  <dc:creator>Mike Ehrhardt</dc:creator>
  <dc:description/>
  <dc:language>en-US</dc:language>
  <cp:lastModifiedBy>Brian E. Moffitt</cp:lastModifiedBy>
  <cp:lastPrinted>1998-05-27T15:19:04Z</cp:lastPrinted>
  <dcterms:modified xsi:type="dcterms:W3CDTF">2001-05-15T16:49:20Z</dcterms:modified>
  <cp:revision>70</cp:revision>
  <dc:subject>Powerpoint Show</dc:subject>
  <dc:title>FM10 Ch 02</dc:title>
</cp:coreProperties>
</file>